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AF1-A011-4027-84C3-3A48F093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643-A393-480D-B583-47A91D1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3D0-B446-4E0B-A0B2-03CD032F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9F5-5596-447D-B76A-C80D9B60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A53-C157-4641-B39D-D7388C57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841-A792-445E-B3E9-87BC010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BBA-6E49-449A-8A56-9EB7B5C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CFA-0CA7-47DC-A5FD-50155A9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880" y="0"/>
            <a:ext cx="582912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15F-21D7-4C75-92AF-5FB9647B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C12-93A5-449A-BC10-FDDAA56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3DF-2FF4-4D0F-BD03-C075214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880" y="-10260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9C5-A2E7-414E-8E9E-351BF25B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C28-E119-43E1-A4FE-FDD4E451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68580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gram Construction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3920"/>
            <a:ext cx="68580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 There are three sheets for each puzzle.  Each puzzle uses one tangram set (7 pieces) and has space for 10 problems the student must sol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)  Print 1 set of sheets for the puzzle you w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)  Use the worksheet to create problems and ans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You do not need answers for problems with sh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ose questions are not part of completed pu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will need to be solved by the students to 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The ‘Red Herring’ column is for creating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answers that can be added to unused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pu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)  Copy problems and answers to blank tan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Use mapping key to transfer Q &amp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ransfer shaded answers from worksh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)  Add red herring answers to blank tan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)  Make a copy, cut a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95360" y="857160"/>
          <a:ext cx="5943600" cy="607716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66440" y="76392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933800" y="7410600"/>
            <a:ext cx="1261800" cy="1063440"/>
            <a:chOff x="4933800" y="7410600"/>
            <a:chExt cx="1261800" cy="1063440"/>
          </a:xfrm>
        </p:grpSpPr>
        <p:sp>
          <p:nvSpPr>
            <p:cNvPr id="228" name=""/>
            <p:cNvSpPr/>
            <p:nvPr/>
          </p:nvSpPr>
          <p:spPr>
            <a:xfrm rot="10800000">
              <a:off x="5277240" y="802296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3800" y="741060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5583240" y="741096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5887440" y="802404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700000">
              <a:off x="4960800" y="807228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2880" y="802332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8900000">
              <a:off x="5353920" y="750744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025880" y="64184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034960" y="7678440"/>
            <a:ext cx="1461240" cy="903600"/>
            <a:chOff x="5034960" y="7678440"/>
            <a:chExt cx="1461240" cy="903600"/>
          </a:xfrm>
        </p:grpSpPr>
        <p:sp>
          <p:nvSpPr>
            <p:cNvPr id="239" name=""/>
            <p:cNvSpPr/>
            <p:nvPr/>
          </p:nvSpPr>
          <p:spPr>
            <a:xfrm rot="8100000">
              <a:off x="5606640" y="8179200"/>
              <a:ext cx="618840" cy="215280"/>
            </a:xfrm>
            <a:prstGeom prst="parallelogram">
              <a:avLst>
                <a:gd name="adj" fmla="val 9643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3500000">
              <a:off x="575532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700000">
              <a:off x="516204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68400" y="79855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5464080" y="7684200"/>
              <a:ext cx="3038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5468040" y="82764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3500000">
              <a:off x="5549040" y="77677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24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78240" y="348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232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4640" y="605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4924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3280" y="583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1920" y="424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4120" y="83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2064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58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87520" y="354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5840" y="167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35320" y="6135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7680" y="470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92240" y="582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7640" y="468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1120" y="60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034960" y="7678440"/>
            <a:ext cx="1461240" cy="903600"/>
            <a:chOff x="5034960" y="7678440"/>
            <a:chExt cx="1461240" cy="903600"/>
          </a:xfrm>
        </p:grpSpPr>
        <p:sp>
          <p:nvSpPr>
            <p:cNvPr id="279" name=""/>
            <p:cNvSpPr/>
            <p:nvPr/>
          </p:nvSpPr>
          <p:spPr>
            <a:xfrm rot="8100000">
              <a:off x="5606640" y="8179200"/>
              <a:ext cx="618840" cy="215280"/>
            </a:xfrm>
            <a:prstGeom prst="parallelogram">
              <a:avLst>
                <a:gd name="adj" fmla="val 9643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500000">
              <a:off x="575532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700000">
              <a:off x="5162040" y="78274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68400" y="79855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5464080" y="7684200"/>
              <a:ext cx="3038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5468040" y="82764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3500000">
              <a:off x="5549040" y="77677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45200" y="209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38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652320" y="7658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64962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Wars Fighter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920840" y="7545240"/>
            <a:ext cx="1460880" cy="903240"/>
            <a:chOff x="4920840" y="7545240"/>
            <a:chExt cx="1460880" cy="903240"/>
          </a:xfrm>
        </p:grpSpPr>
        <p:sp>
          <p:nvSpPr>
            <p:cNvPr id="292" name=""/>
            <p:cNvSpPr/>
            <p:nvPr/>
          </p:nvSpPr>
          <p:spPr>
            <a:xfrm rot="8100000">
              <a:off x="5492520" y="8045640"/>
              <a:ext cx="618480" cy="215280"/>
            </a:xfrm>
            <a:prstGeom prst="parallelogram">
              <a:avLst>
                <a:gd name="adj" fmla="val 9637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500000">
              <a:off x="5640840" y="76942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700000">
              <a:off x="5047920" y="7694280"/>
              <a:ext cx="613440" cy="6138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3920" y="7852320"/>
              <a:ext cx="296280" cy="29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5349600" y="7551360"/>
              <a:ext cx="303840" cy="301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5353560" y="8143200"/>
              <a:ext cx="3034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500000">
              <a:off x="5434920" y="7634520"/>
              <a:ext cx="430560" cy="430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968640" y="613260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03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311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3492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5160" y="213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82560" y="539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236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35120" y="581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20640" y="422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840" y="444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0440" y="245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25760" y="83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320" y="489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4400" y="609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7640" y="579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39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35280" y="207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6560" y="83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7824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680" y="2324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880920" y="750564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1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737240" y="7405200"/>
            <a:ext cx="1731240" cy="1360440"/>
            <a:chOff x="4737240" y="7405200"/>
            <a:chExt cx="1731240" cy="1360440"/>
          </a:xfrm>
        </p:grpSpPr>
        <p:sp>
          <p:nvSpPr>
            <p:cNvPr id="354" name=""/>
            <p:cNvSpPr/>
            <p:nvPr/>
          </p:nvSpPr>
          <p:spPr>
            <a:xfrm rot="13500000">
              <a:off x="4799160" y="746784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8100000">
              <a:off x="5866560" y="8364600"/>
              <a:ext cx="615960" cy="214560"/>
            </a:xfrm>
            <a:prstGeom prst="parallelogram">
              <a:avLst>
                <a:gd name="adj" fmla="val 9630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3500000">
              <a:off x="5104800" y="7982640"/>
              <a:ext cx="6120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5025600" y="7704000"/>
              <a:ext cx="29556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700000">
              <a:off x="5237280" y="7468560"/>
              <a:ext cx="30276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409720" y="8134920"/>
              <a:ext cx="61164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700000">
              <a:off x="5180760" y="7944840"/>
              <a:ext cx="42948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0840" y="50468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365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373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73480" y="304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5880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02320" y="162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44800" y="653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02000" y="131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236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63480" y="539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30400" y="2685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864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6040" y="413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5840" y="41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164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06240" y="419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1164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1632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49480" y="466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54000" y="169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405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002280" y="24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44760" y="6515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880920" y="78105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749840" y="7530840"/>
            <a:ext cx="1761840" cy="1222200"/>
            <a:chOff x="4749840" y="7530840"/>
            <a:chExt cx="1761840" cy="1222200"/>
          </a:xfrm>
        </p:grpSpPr>
        <p:sp>
          <p:nvSpPr>
            <p:cNvPr id="418" name=""/>
            <p:cNvSpPr/>
            <p:nvPr/>
          </p:nvSpPr>
          <p:spPr>
            <a:xfrm rot="8100000">
              <a:off x="5677560" y="838836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9560" y="7834680"/>
              <a:ext cx="29556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900000">
              <a:off x="5773320" y="7814520"/>
              <a:ext cx="61128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8100000">
              <a:off x="4971960" y="7619760"/>
              <a:ext cx="42912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1280" y="8331120"/>
              <a:ext cx="617040" cy="214560"/>
            </a:xfrm>
            <a:prstGeom prst="parallelogram">
              <a:avLst>
                <a:gd name="adj" fmla="val 964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8100000">
              <a:off x="5486760" y="817812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8900000">
              <a:off x="4876560" y="7814520"/>
              <a:ext cx="61164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949920" y="61516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44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57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4600" y="7467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29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43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706480" y="3011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1840" y="514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348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7960" y="244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1840" y="14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8080" y="56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83000" y="287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3020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0480" y="77979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732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0920" y="213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6920" y="442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15800" y="66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6240" y="4478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83000" y="5943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06920" y="5848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1180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69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49712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8360" y="4745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690480" y="7772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029200" y="7195320"/>
            <a:ext cx="1168200" cy="1461240"/>
            <a:chOff x="5029200" y="7195320"/>
            <a:chExt cx="1168200" cy="1461240"/>
          </a:xfrm>
        </p:grpSpPr>
        <p:sp>
          <p:nvSpPr>
            <p:cNvPr id="482" name=""/>
            <p:cNvSpPr/>
            <p:nvPr/>
          </p:nvSpPr>
          <p:spPr>
            <a:xfrm rot="18900000">
              <a:off x="5318640" y="725796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33880" y="8049240"/>
              <a:ext cx="294480" cy="29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800000">
              <a:off x="5029200" y="8340120"/>
              <a:ext cx="301680" cy="3009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28000" y="8044560"/>
              <a:ext cx="60984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6200000">
              <a:off x="5251680" y="7406280"/>
              <a:ext cx="429120" cy="4276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5036040" y="7832160"/>
              <a:ext cx="649800" cy="215640"/>
            </a:xfrm>
            <a:prstGeom prst="parallelogram">
              <a:avLst>
                <a:gd name="adj" fmla="val 998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8900000">
              <a:off x="5460840" y="7742520"/>
              <a:ext cx="609480" cy="612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025880" y="61516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493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501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173320" y="1868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6840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7120" y="421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87800" y="565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77840" y="4344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92080" y="634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5432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82600" y="394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000" y="2228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8160" y="77025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7680" y="219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26040" y="219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8740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83000" y="590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453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0232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39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240" y="56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534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728280" y="80010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le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355280" y="7613640"/>
            <a:ext cx="2052720" cy="1083960"/>
            <a:chOff x="4355280" y="7613640"/>
            <a:chExt cx="2052720" cy="1083960"/>
          </a:xfrm>
        </p:grpSpPr>
        <p:sp>
          <p:nvSpPr>
            <p:cNvPr id="545" name=""/>
            <p:cNvSpPr/>
            <p:nvPr/>
          </p:nvSpPr>
          <p:spPr>
            <a:xfrm rot="9420000">
              <a:off x="5223960" y="833940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6720000">
              <a:off x="5913360" y="8118000"/>
              <a:ext cx="43056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4020000">
              <a:off x="5499360" y="8225640"/>
              <a:ext cx="29664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2120000">
              <a:off x="4813920" y="8349480"/>
              <a:ext cx="302400" cy="302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9420000">
              <a:off x="4451040" y="7952040"/>
              <a:ext cx="610560" cy="6148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 rot="17520000">
              <a:off x="5538240" y="8010720"/>
              <a:ext cx="654120" cy="215280"/>
            </a:xfrm>
            <a:prstGeom prst="parallelogram">
              <a:avLst>
                <a:gd name="adj" fmla="val 1006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220000">
              <a:off x="5016240" y="7708320"/>
              <a:ext cx="61056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987720" y="559908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556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564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773000" y="527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30880" y="329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06240" y="123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0168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4924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34840" y="321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9080" y="5238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68760" y="590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8040" y="411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8640" y="7664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0680" y="179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26040" y="219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11360" y="68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5900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6000" y="263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77840" y="442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11560" y="638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20840" y="575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597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861840" y="771516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et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86440" y="7359120"/>
            <a:ext cx="1202760" cy="1369080"/>
            <a:chOff x="5086440" y="7359120"/>
            <a:chExt cx="1202760" cy="1369080"/>
          </a:xfrm>
        </p:grpSpPr>
        <p:sp>
          <p:nvSpPr>
            <p:cNvPr id="608" name=""/>
            <p:cNvSpPr/>
            <p:nvPr/>
          </p:nvSpPr>
          <p:spPr>
            <a:xfrm rot="5400000">
              <a:off x="5372280" y="765684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1000" y="826668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81520" y="8266680"/>
              <a:ext cx="302400" cy="3002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5085720" y="8257680"/>
              <a:ext cx="30204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5372280" y="7656480"/>
              <a:ext cx="61020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8100000">
              <a:off x="5462280" y="7447680"/>
              <a:ext cx="428400" cy="428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 rot="13500000">
              <a:off x="5657760" y="8314560"/>
              <a:ext cx="650160" cy="215280"/>
            </a:xfrm>
            <a:prstGeom prst="parallelogram">
              <a:avLst>
                <a:gd name="adj" fmla="val 10005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949920" y="563076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19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627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68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5320" y="6478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516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9520" y="464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5320" y="3430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5840" y="167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8520" y="76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20760" y="137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256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4640" y="274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2040" y="655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832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9520" y="41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76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9720" y="31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0240" y="3430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7640" y="4573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11320" y="5869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8520" y="2973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4600" y="7467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4954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116080" y="3373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82800" y="565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44440" y="400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1840" y="215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30640" y="636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87880" y="224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19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6560" y="66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725720" y="1886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3680" y="77598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39800" y="6343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9920" y="449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73000" y="341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2960" y="66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11800" y="497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30880" y="181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16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3064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60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7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>
            <a:off x="1033200" y="78868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n and S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004000" y="7385760"/>
            <a:ext cx="1075680" cy="1159560"/>
            <a:chOff x="5004000" y="7385760"/>
            <a:chExt cx="1075680" cy="1159560"/>
          </a:xfrm>
        </p:grpSpPr>
        <p:sp>
          <p:nvSpPr>
            <p:cNvPr id="671" name=""/>
            <p:cNvSpPr/>
            <p:nvPr/>
          </p:nvSpPr>
          <p:spPr>
            <a:xfrm rot="8100000">
              <a:off x="5066640" y="7959960"/>
              <a:ext cx="30204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13920" y="7596720"/>
              <a:ext cx="294840" cy="29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0120" y="8109000"/>
              <a:ext cx="428040" cy="4309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5436000" y="7932960"/>
              <a:ext cx="613800" cy="61056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5429520" y="7886160"/>
              <a:ext cx="649800" cy="216360"/>
            </a:xfrm>
            <a:prstGeom prst="parallelogram">
              <a:avLst>
                <a:gd name="adj" fmla="val 9949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8900000">
              <a:off x="5132880" y="7801200"/>
              <a:ext cx="609840" cy="6145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8100000">
              <a:off x="5709240" y="7448040"/>
              <a:ext cx="301680" cy="3020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3911760" y="56372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6858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683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36400" y="590400"/>
            <a:ext cx="6232680" cy="6248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14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632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872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9212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3000" y="680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5880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76372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7792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44600" y="6800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3240" y="8502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25840" y="6800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14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632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872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9212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3000" y="7259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5880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6372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7792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44600" y="7257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25840" y="72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457200" y="114300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690480" y="77533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16360" y="735156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rot="8100000">
            <a:off x="10515600" y="144792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7083000" y="288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0800000">
            <a:off x="7924320" y="213336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6859080" y="217008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ork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8900000">
            <a:off x="10515240" y="-45720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3500000">
            <a:off x="9521280" y="52056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3500000">
            <a:off x="9145440" y="258876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2700000">
            <a:off x="12269880" y="2588760"/>
            <a:ext cx="2442960" cy="2446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-1600200" y="7620120"/>
            <a:ext cx="1181160" cy="116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5400000">
            <a:off x="-2571840" y="-3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571840" y="106668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2700000">
            <a:off x="-2981880" y="6791400"/>
            <a:ext cx="1181160" cy="1160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2700000">
            <a:off x="11503080" y="52056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86600" y="762120"/>
            <a:ext cx="1209600" cy="12031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8150040" y="765000"/>
            <a:ext cx="120960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10800000">
            <a:off x="8152920" y="-360"/>
            <a:ext cx="1209960" cy="1203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7812000" y="2855880"/>
            <a:ext cx="244296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13440" y="281952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8100000">
            <a:off x="10667520" y="4267080"/>
            <a:ext cx="2443320" cy="2446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-1714320" y="-3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-1714320" y="106668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700000">
            <a:off x="-857160" y="4114800"/>
            <a:ext cx="1714680" cy="17143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8900000">
            <a:off x="-1980720" y="2666520"/>
            <a:ext cx="171432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8100000">
            <a:off x="-1981080" y="5486040"/>
            <a:ext cx="171432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3500000">
            <a:off x="-3047400" y="4323960"/>
            <a:ext cx="1714680" cy="17146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26120" y="5335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07360" y="3276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-1598760" y="990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1522440" y="67816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35720" y="6858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535960" y="685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-2360520" y="26668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917200" y="3276720"/>
            <a:ext cx="19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 rot="16200000">
            <a:off x="9059760" y="660456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7365960" y="5670720"/>
            <a:ext cx="2603520" cy="861840"/>
          </a:xfrm>
          <a:prstGeom prst="parallelogram">
            <a:avLst>
              <a:gd name="adj" fmla="val 10008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 rot="18900000">
            <a:off x="8020800" y="646956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 rot="13500000">
            <a:off x="9792000" y="5886000"/>
            <a:ext cx="2603520" cy="862200"/>
          </a:xfrm>
          <a:prstGeom prst="parallelogram">
            <a:avLst>
              <a:gd name="adj" fmla="val 1000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8900000">
            <a:off x="10779120" y="947520"/>
            <a:ext cx="2443320" cy="244620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76280" y="914400"/>
          <a:ext cx="5943600" cy="6076800"/>
        </p:xfrm>
        <a:graphic>
          <a:graphicData uri="http://schemas.openxmlformats.org/drawingml/2006/table">
            <a:tbl>
              <a:tblPr/>
              <a:tblGrid>
                <a:gridCol w="876240"/>
                <a:gridCol w="1562040"/>
                <a:gridCol w="1676520"/>
                <a:gridCol w="182880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33240" y="77914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m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31760" y="7066800"/>
            <a:ext cx="1908000" cy="2261880"/>
            <a:chOff x="4631760" y="7066800"/>
            <a:chExt cx="1908000" cy="2261880"/>
          </a:xfrm>
        </p:grpSpPr>
        <p:sp>
          <p:nvSpPr>
            <p:cNvPr id="100" name=""/>
            <p:cNvSpPr/>
            <p:nvPr/>
          </p:nvSpPr>
          <p:spPr>
            <a:xfrm rot="2700000">
              <a:off x="5054760" y="7810920"/>
              <a:ext cx="434520" cy="424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100000">
              <a:off x="5980320" y="7480080"/>
              <a:ext cx="443160" cy="4424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700000">
              <a:off x="4722120" y="7480800"/>
              <a:ext cx="444960" cy="440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900000">
              <a:off x="5457240" y="725148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8100000">
              <a:off x="5135040" y="8244000"/>
              <a:ext cx="895680" cy="89964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4952880" y="7387200"/>
              <a:ext cx="630720" cy="6282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86600" y="7386120"/>
              <a:ext cx="903960" cy="315360"/>
            </a:xfrm>
            <a:prstGeom prst="parallelogram">
              <a:avLst>
                <a:gd name="adj" fmla="val 961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49920" y="64562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019840" y="7504200"/>
            <a:ext cx="1517400" cy="1221480"/>
            <a:chOff x="5019840" y="7504200"/>
            <a:chExt cx="1517400" cy="1221480"/>
          </a:xfrm>
        </p:grpSpPr>
        <p:sp>
          <p:nvSpPr>
            <p:cNvPr id="111" name=""/>
            <p:cNvSpPr/>
            <p:nvPr/>
          </p:nvSpPr>
          <p:spPr>
            <a:xfrm rot="2700000">
              <a:off x="5989680" y="7965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019840" y="7504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5926320" y="7503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3500000">
              <a:off x="5268240" y="7963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700000">
              <a:off x="5603040" y="8165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0400" y="7504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100000">
              <a:off x="5414760" y="8208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119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04960" y="274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6240" y="436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824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6240" y="318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240" y="541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320" y="81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1200" y="6534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800" y="7658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04960" y="4552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8560" y="579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648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2560" y="602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3240" y="215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520" y="302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520" y="4243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019840" y="7504200"/>
            <a:ext cx="1517400" cy="1221480"/>
            <a:chOff x="5019840" y="7504200"/>
            <a:chExt cx="1517400" cy="1221480"/>
          </a:xfrm>
        </p:grpSpPr>
        <p:sp>
          <p:nvSpPr>
            <p:cNvPr id="149" name=""/>
            <p:cNvSpPr/>
            <p:nvPr/>
          </p:nvSpPr>
          <p:spPr>
            <a:xfrm rot="2700000">
              <a:off x="5989680" y="7965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5019840" y="7504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926320" y="7503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5268240" y="7963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700000">
              <a:off x="5603040" y="8165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0400" y="7504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100000">
              <a:off x="5414760" y="8208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07824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83000" y="81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0200" y="2343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571680" y="723960"/>
          <a:ext cx="5943600" cy="607680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676520"/>
                <a:gridCol w="18288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He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499680" y="7448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-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81680" y="7477200"/>
            <a:ext cx="1517400" cy="1221480"/>
            <a:chOff x="4981680" y="7477200"/>
            <a:chExt cx="1517400" cy="1221480"/>
          </a:xfrm>
        </p:grpSpPr>
        <p:sp>
          <p:nvSpPr>
            <p:cNvPr id="163" name=""/>
            <p:cNvSpPr/>
            <p:nvPr/>
          </p:nvSpPr>
          <p:spPr>
            <a:xfrm rot="2700000">
              <a:off x="5951520" y="79380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4981680" y="747720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5888160" y="7476840"/>
              <a:ext cx="610560" cy="6112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3500000">
              <a:off x="5230080" y="7936200"/>
              <a:ext cx="302400" cy="3006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700000">
              <a:off x="5564880" y="8138520"/>
              <a:ext cx="657720" cy="214200"/>
            </a:xfrm>
            <a:prstGeom prst="parallelogram">
              <a:avLst>
                <a:gd name="adj" fmla="val 1030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2240" y="7477200"/>
              <a:ext cx="295200" cy="2898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8100000">
              <a:off x="5376600" y="8181720"/>
              <a:ext cx="428400" cy="4284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064040" y="5180040"/>
            <a:ext cx="125064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map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Bl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8640" y="7620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7696080"/>
            <a:ext cx="1261800" cy="1063440"/>
            <a:chOff x="5105520" y="7696080"/>
            <a:chExt cx="1261800" cy="1063440"/>
          </a:xfrm>
        </p:grpSpPr>
        <p:sp>
          <p:nvSpPr>
            <p:cNvPr id="174" name=""/>
            <p:cNvSpPr/>
            <p:nvPr/>
          </p:nvSpPr>
          <p:spPr>
            <a:xfrm rot="10800000">
              <a:off x="5448960" y="830880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7696080"/>
              <a:ext cx="612000" cy="6130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5754600" y="7696080"/>
              <a:ext cx="61236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058440" y="830988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700000">
              <a:off x="5132520" y="835776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54600" y="830916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900000">
              <a:off x="5525280" y="779292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4520" y="725040"/>
            <a:ext cx="6153120" cy="6169320"/>
            <a:chOff x="344520" y="725040"/>
            <a:chExt cx="6153120" cy="6169320"/>
          </a:xfrm>
        </p:grpSpPr>
        <p:sp>
          <p:nvSpPr>
            <p:cNvPr id="182" name=""/>
            <p:cNvSpPr/>
            <p:nvPr/>
          </p:nvSpPr>
          <p:spPr>
            <a:xfrm>
              <a:off x="344520" y="685476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4452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4520" y="725400"/>
              <a:ext cx="6113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040" y="725400"/>
              <a:ext cx="144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4520" y="725400"/>
              <a:ext cx="6113520" cy="61293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2000" y="725040"/>
              <a:ext cx="305604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402000" y="5322600"/>
              <a:ext cx="15271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1872720" y="5322600"/>
              <a:ext cx="1528920" cy="153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873080" y="3790800"/>
              <a:ext cx="152892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73080" y="2257200"/>
              <a:ext cx="1800" cy="3065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520" y="3790800"/>
              <a:ext cx="1528560" cy="15321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32480" y="6827760"/>
              <a:ext cx="65160" cy="66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232320" cy="6248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63240" y="535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20720" y="653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20640" y="41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68560" y="455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77880" y="31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32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125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7400" y="605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30400" y="27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6800" y="777240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 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ic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2888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 Mask -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63880" y="86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7320" y="192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78080" y="318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26000" y="163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06720" y="581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6640" y="65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3480" y="603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8320" y="4533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8600" y="1600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124600" y="7543800"/>
            <a:ext cx="1261800" cy="1063440"/>
            <a:chOff x="5124600" y="7543800"/>
            <a:chExt cx="1261800" cy="1063440"/>
          </a:xfrm>
        </p:grpSpPr>
        <p:sp>
          <p:nvSpPr>
            <p:cNvPr id="216" name=""/>
            <p:cNvSpPr/>
            <p:nvPr/>
          </p:nvSpPr>
          <p:spPr>
            <a:xfrm rot="10800000">
              <a:off x="5468040" y="8156160"/>
              <a:ext cx="30312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24600" y="754380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5774040" y="7544160"/>
              <a:ext cx="612000" cy="6127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6077880" y="8157240"/>
              <a:ext cx="302760" cy="30132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700000">
              <a:off x="5151600" y="8205480"/>
              <a:ext cx="617760" cy="214560"/>
            </a:xfrm>
            <a:prstGeom prst="parallelogram">
              <a:avLst>
                <a:gd name="adj" fmla="val 9658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3680" y="8156520"/>
              <a:ext cx="295920" cy="290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5544360" y="7640640"/>
              <a:ext cx="429480" cy="42948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773360" y="82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23:06:09Z</dcterms:created>
  <dc:creator>WCPSS</dc:creator>
  <dc:description/>
  <dc:language>en-US</dc:language>
  <cp:lastModifiedBy>WCPSS</cp:lastModifiedBy>
  <dcterms:modified xsi:type="dcterms:W3CDTF">2003-09-23T16:10:26Z</dcterms:modified>
  <cp:revision>87</cp:revision>
  <dc:subject/>
  <dc:title>PowerPoint Presentation</dc:title>
</cp:coreProperties>
</file>